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5EF6-458E-4358-A7BE-81826EDE2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EAAB-221B-4488-8399-5DF539D1C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5F7-D9DE-4174-820D-103D8DFE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F90-CE89-473A-937B-E707314F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5EB-8BB4-4D42-8AB4-2B9AE2CA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1B8-7C79-4E00-A524-1AF9CDC2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975-C7B3-48E6-A1D2-F52DE473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061-D517-4B73-A546-A5B6D00C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76F-A410-46D0-B8C6-186555C6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394-1CFB-4774-81EB-01BDD831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4E3-2E7C-41AB-A4DC-F04ABDE6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C24-816E-4825-A8C4-886E89A3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B63-E3BF-480F-AFEC-D6DB4A1C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A2B-2DBE-4A5D-BD63-24D10A12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7FB5-30C7-4D0E-92D8-16FE42E48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myoops.org/twocw/mit/NR/rdonlyres/Economics/14-05Fall-2005/09E5E194-B250-42D0-82B6-11E7175AB3E2/0/chp_currency_1.jpg"/>
          <p:cNvPicPr/>
          <p:nvPr/>
        </p:nvPicPr>
        <p:blipFill>
          <a:blip r:embed="rId1"/>
          <a:stretch/>
        </p:blipFill>
        <p:spPr>
          <a:xfrm>
            <a:off x="0" y="-136440"/>
            <a:ext cx="9215280" cy="6994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n Wei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k Knasi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 NOT Jus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2.bp.blogspot.com/_5gW6OiFwD2U/SK172dU1utI/AAAAAAAADfg/vxjHk2XyJKM/s400/moneybags.jpeg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9"/>
          <p:cNvSpPr/>
          <p:nvPr/>
        </p:nvSpPr>
        <p:spPr>
          <a:xfrm>
            <a:off x="380880" y="1676520"/>
            <a:ext cx="8305920" cy="487656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4"/>
          <p:cNvSpPr/>
          <p:nvPr/>
        </p:nvSpPr>
        <p:spPr>
          <a:xfrm flipH="1">
            <a:off x="1523520" y="1754280"/>
            <a:ext cx="1800" cy="4265640"/>
          </a:xfrm>
          <a:prstGeom prst="line">
            <a:avLst/>
          </a:prstGeom>
          <a:ln w="73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9"/>
          <p:cNvSpPr/>
          <p:nvPr/>
        </p:nvSpPr>
        <p:spPr>
          <a:xfrm>
            <a:off x="1523880" y="6019920"/>
            <a:ext cx="4496040" cy="1440"/>
          </a:xfrm>
          <a:prstGeom prst="line">
            <a:avLst/>
          </a:prstGeom>
          <a:ln w="73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2"/>
          <p:cNvSpPr/>
          <p:nvPr/>
        </p:nvSpPr>
        <p:spPr>
          <a:xfrm flipV="1">
            <a:off x="2286000" y="3048120"/>
            <a:ext cx="2895480" cy="2133360"/>
          </a:xfrm>
          <a:prstGeom prst="line">
            <a:avLst/>
          </a:prstGeom>
          <a:ln w="349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5184360" y="274320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2059920" y="51055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689400" y="205740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4728240" y="617220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1.istockphoto.com/file_thumbview_approve/1775959/2/istockphoto_1775959_macroeconomics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ope of AS Curve vs.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of goods and services a business can provide depends on the prices they obtain for their outp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ges and other production costs = increased pric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it per unit = price – cost per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 positive slope because firms normally can purchase inputs at prices that are fixed for some period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eblogs.newsday.com/news/local/longisland/politics/blog/moneybags62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quilibrium G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880" y="1676520"/>
            <a:ext cx="8305920" cy="487656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5"/>
          <p:cNvSpPr/>
          <p:nvPr/>
        </p:nvSpPr>
        <p:spPr>
          <a:xfrm flipH="1">
            <a:off x="1523520" y="1754280"/>
            <a:ext cx="1800" cy="4265640"/>
          </a:xfrm>
          <a:prstGeom prst="line">
            <a:avLst/>
          </a:prstGeom>
          <a:ln w="73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6"/>
          <p:cNvSpPr/>
          <p:nvPr/>
        </p:nvSpPr>
        <p:spPr>
          <a:xfrm>
            <a:off x="1523880" y="6019920"/>
            <a:ext cx="4496040" cy="1440"/>
          </a:xfrm>
          <a:prstGeom prst="line">
            <a:avLst/>
          </a:prstGeom>
          <a:ln w="73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 flipV="1">
            <a:off x="2286000" y="3048120"/>
            <a:ext cx="2895480" cy="2133360"/>
          </a:xfrm>
          <a:prstGeom prst="line">
            <a:avLst/>
          </a:prstGeom>
          <a:ln w="442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5184360" y="274320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2059920" y="51055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994320" y="175248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5414040" y="609588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3"/>
          <p:cNvSpPr/>
          <p:nvPr/>
        </p:nvSpPr>
        <p:spPr>
          <a:xfrm>
            <a:off x="2438280" y="3124080"/>
            <a:ext cx="2667240" cy="2133720"/>
          </a:xfrm>
          <a:prstGeom prst="line">
            <a:avLst/>
          </a:prstGeom>
          <a:ln w="442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6"/>
          <p:cNvSpPr/>
          <p:nvPr/>
        </p:nvSpPr>
        <p:spPr>
          <a:xfrm flipH="1">
            <a:off x="3731760" y="4192560"/>
            <a:ext cx="3240" cy="1752480"/>
          </a:xfrm>
          <a:prstGeom prst="line">
            <a:avLst/>
          </a:prstGeom>
          <a:ln w="38160">
            <a:solidFill>
              <a:srgbClr val="4f62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518148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19810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9"/>
          <p:cNvSpPr/>
          <p:nvPr/>
        </p:nvSpPr>
        <p:spPr>
          <a:xfrm>
            <a:off x="335268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smallbiztechnology.com/media/money-coi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f Correcting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recession, more and more workers are unable to find work at the “high” wages they were used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ually the need to be employed would overwhelm the resistance to wage c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inesses would become increasingly willing to cut prices as the period of weak demand pers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ww.acc-tv.com/images/wjla/blogs/money_mon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ll Employm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0880" y="1676520"/>
            <a:ext cx="8305920" cy="487656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8"/>
          <p:cNvSpPr/>
          <p:nvPr/>
        </p:nvSpPr>
        <p:spPr>
          <a:xfrm flipH="1">
            <a:off x="1523520" y="1754280"/>
            <a:ext cx="1800" cy="4265640"/>
          </a:xfrm>
          <a:prstGeom prst="line">
            <a:avLst/>
          </a:prstGeom>
          <a:ln w="73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9"/>
          <p:cNvSpPr/>
          <p:nvPr/>
        </p:nvSpPr>
        <p:spPr>
          <a:xfrm>
            <a:off x="1523880" y="6019920"/>
            <a:ext cx="4496040" cy="1440"/>
          </a:xfrm>
          <a:prstGeom prst="line">
            <a:avLst/>
          </a:prstGeom>
          <a:ln w="73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 flipV="1">
            <a:off x="2286000" y="3048120"/>
            <a:ext cx="2895480" cy="2133360"/>
          </a:xfrm>
          <a:prstGeom prst="line">
            <a:avLst/>
          </a:prstGeom>
          <a:ln w="442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184360" y="274320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2059920" y="51055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994320" y="175248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5414040" y="609588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15"/>
          <p:cNvSpPr/>
          <p:nvPr/>
        </p:nvSpPr>
        <p:spPr>
          <a:xfrm>
            <a:off x="2438280" y="3124080"/>
            <a:ext cx="2667240" cy="2133720"/>
          </a:xfrm>
          <a:prstGeom prst="line">
            <a:avLst/>
          </a:prstGeom>
          <a:ln w="442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6"/>
          <p:cNvSpPr/>
          <p:nvPr/>
        </p:nvSpPr>
        <p:spPr>
          <a:xfrm flipH="1">
            <a:off x="3731760" y="4192560"/>
            <a:ext cx="3240" cy="1752480"/>
          </a:xfrm>
          <a:prstGeom prst="line">
            <a:avLst/>
          </a:prstGeom>
          <a:ln w="38160">
            <a:solidFill>
              <a:srgbClr val="4f62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518148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19810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335268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21"/>
          <p:cNvSpPr/>
          <p:nvPr/>
        </p:nvSpPr>
        <p:spPr>
          <a:xfrm flipH="1">
            <a:off x="3733920" y="1828800"/>
            <a:ext cx="2880" cy="4191120"/>
          </a:xfrm>
          <a:prstGeom prst="line">
            <a:avLst/>
          </a:prstGeom>
          <a:ln w="349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tbn0.google.com/images?q=tbn:I0REo8PhM2uWbM:http://www.acf-fr.org/i/08-01-17_money8.jpg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ll Employ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conomy is at full employment when equilibrium GDP = Potential G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06:00Z</dcterms:created>
  <dc:creator>MSMITH</dc:creator>
  <dc:description/>
  <dc:language>en-US</dc:language>
  <cp:lastModifiedBy>HP Authorized Customer</cp:lastModifiedBy>
  <dcterms:modified xsi:type="dcterms:W3CDTF">2009-01-27T22:05:17Z</dcterms:modified>
  <cp:revision>12</cp:revision>
  <dc:subject/>
  <dc:title>Chapter 28</dc:title>
</cp:coreProperties>
</file>